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993-8311-48D0-9809-DADAD10A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367-9FE7-4E9B-974C-62184C6C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CB7-C5B2-4FF0-A6B1-97DE9CB1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EBB-9F25-41A3-8738-FE12D4D8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0B5-1BB7-4B85-989E-05EBC836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2B2-790F-4AD8-A817-253D3A4B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04E-2C67-453B-8786-FCF1A4AD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CBD-A45F-4D84-A740-BBADFB3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F0B-46C5-47FD-83EC-1E666E8E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A87-8DB4-4AE9-BDC0-0677143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28A-4800-4C35-AD94-9B9F39FF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2C0-F07B-4F52-800D-56D15354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6732-2AE9-4D4D-9948-6B3187FC2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3066840" cy="1619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081240" cy="161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71600" y="1371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114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1295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4114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049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ed Output using a bank of 10 Gabor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876920" y="1752480"/>
            <a:ext cx="3276360" cy="1632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876920" y="4724280"/>
            <a:ext cx="32763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7:10:39Z</dcterms:created>
  <dc:creator>Siva</dc:creator>
  <dc:description/>
  <dc:language>en-US</dc:language>
  <cp:lastModifiedBy>SD_TOSHIBA</cp:lastModifiedBy>
  <dcterms:modified xsi:type="dcterms:W3CDTF">2008-05-30T19:16:17Z</dcterms:modified>
  <cp:revision>4</cp:revision>
  <dc:subject/>
  <dc:title>Slide 1</dc:title>
</cp:coreProperties>
</file>